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DD56-E1D5-4213-8938-D3059C31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9BB2-34A9-47C2-BC92-BB73248C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CCDD-EEBA-4DC6-835B-31B58EC91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91A8-0506-43B9-B277-CBB51C59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10EC-3278-49F9-8A0A-C780D19E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B44A-6FA5-4CB5-B40E-57731D60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F5F0-71E0-4320-99F3-D81481D4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10C1-77C3-4CB2-BF21-14149194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A157-6721-45D0-AE8F-385CFC92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C1D6-9924-4533-9B58-EDA869A5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B330-08FC-417A-8CE2-E0EDEA98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5ADF-976A-42D5-9825-ABFE2247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EA05-2B58-427A-88CB-80BC1933C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quistador and Pre Columbian civil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Phil and Lu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tez traveled with 500 people and 16 horses to defeat the Aztecs in Tenochtit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Native tribes helped the Spanish defeat the Aztecs because they captured other Indians for sacrifice or slav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ochtitlan was a weird city because it was built in a la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ztecs were polytheistic (they believed in many go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ztecs and their empire Montezuma greeted Cortez mistaking him as Quetzacoatl a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tez took Montezuma prisoner, and after ransom decapitated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anish conquered Tenochtitlan and civilized a new 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124080" y="3886200"/>
            <a:ext cx="3505320" cy="2971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55000" y="495216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ku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ncient Mayas civilization was made up of c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rade off of food and goods and a stone of jade was important to Mayas city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a cities had temples and markets were people bought and sold go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children, lived just outside the city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n was the most important in a di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57400" y="2895480"/>
            <a:ext cx="5848200" cy="3962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3400" y="47998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ku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acas civilization  was gigantic (around 20 mill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ere powerful and organ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s were easily conquered by Pizzaro because they were currently in a civil war (when two or more groups in one contry are fighting against each other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ahualpa the Incan leader was captured and held for rans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zarro asked for ransom to get Atahualpa 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cas did not care about gold and silver as much so they paid the rans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zzaro did not keep his will and Eventually splattered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43200" y="3873600"/>
            <a:ext cx="3581280" cy="2984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26760" y="53334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p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tez pretended to friend the Azte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aniards were amazed by the size of the Aztec capit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eople dressed very in great finery with gold and jewels and Cortez and his men were giving room in a beautiful pal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 When the empire visited the Spanish took him as priso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tez was out numbered so he could not leave any stayed for mon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tez killed there leader Montezuma by planning a giant attack on the Azte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middle of 1521, after 3 years of fighting, the Spanish controlled all of Mex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za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Pizzaro a Spanish conquistador heard tales of riches in the Andes mountains of Pe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531 when Pizzaro and de Soto finally arrived at Caxamarca where the Inca Atahualpa was staying he was expecting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Pizzaro came down the valley they were at the Incas vast army and retre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invited the empire over the next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aited all day in till finally at sun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can leader refused to become Christian so the Spanish lunched a sneak attack and captured Atahualp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Incas and Aztecs were shipped to Spain and the Spain became the richest and most powerful nation on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panish changed life in central and South America forever because they forced everyone else to speak Spanish and become Christian, that is why you see a lot of Christians and Spanish speak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 FOR WACHING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arrator: Phi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yped by :Lu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ditor: Phi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SB owner: Lu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5:30:04Z</dcterms:created>
  <dc:creator>jklib</dc:creator>
  <dc:description/>
  <dc:language>en-US</dc:language>
  <cp:lastModifiedBy>jklib</cp:lastModifiedBy>
  <dcterms:modified xsi:type="dcterms:W3CDTF">2011-11-29T16:25:13Z</dcterms:modified>
  <cp:revision>13</cp:revision>
  <dc:subject/>
  <dc:title>Slide 1</dc:title>
</cp:coreProperties>
</file>